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37268"/>
        <c:axId val="46025468"/>
      </c:barChart>
      <c:catAx>
        <c:axId val="66637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25468"/>
        <c:crosses val="autoZero"/>
        <c:auto val="1"/>
        <c:lblAlgn val="ctr"/>
        <c:lblOffset val="100"/>
        <c:noMultiLvlLbl val="0"/>
      </c:catAx>
      <c:valAx>
        <c:axId val="46025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37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E6B-763B-48A9-815B-9FF047AD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961-0F31-4283-8048-58D7D6A5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A05-3D05-4C6B-8984-20B2EEFA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ADD-28F9-489B-8287-34BA8F3A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525-ECEE-4A6B-ACC1-043E86DF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B88-11C3-43AA-AFEB-68FFCFC0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EC3-4A80-4BE3-AF64-2BF2EE71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B78-46E6-4A80-AD93-A8EDFCA2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64D-D2E5-4123-AB42-7DA21A2A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487-1E9D-431F-AC24-2F93EB27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569-15F9-459F-86AE-0922C3A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8B4-C8DF-49DB-BD9E-E0AB03C8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1741A-5977-48B3-8397-83F505CE39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