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38508"/>
        <c:axId val="46713659"/>
      </c:barChart>
      <c:catAx>
        <c:axId val="42838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13659"/>
        <c:crosses val="autoZero"/>
        <c:auto val="1"/>
        <c:lblAlgn val="ctr"/>
        <c:lblOffset val="100"/>
        <c:noMultiLvlLbl val="0"/>
      </c:catAx>
      <c:valAx>
        <c:axId val="46713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38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C3E-D421-4F76-9DD3-54E1E793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633-8A13-4C08-AB4F-162C7699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5C2-B012-41BD-9CCE-D3E85CEE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4BF-C584-4900-A53A-52C98534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B23-DDEE-478A-973A-F9959C4A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BAA-0C1B-4780-81BA-A0124D84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ECD-1CAB-4FCB-8099-5E0F24A3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BA3-ED86-4078-9EAE-28C5466F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4F8-D56C-49BC-B4CD-625CD6E2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F08-1F38-452A-A919-DAB01585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959-2797-43BC-A08D-0B747584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8D6-43C5-49CA-8F96-D41BC99D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7FCFF-F3F7-442B-AD14-15D77B661C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