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48458"/>
        <c:axId val="90913193"/>
      </c:barChart>
      <c:catAx>
        <c:axId val="17848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13193"/>
        <c:crosses val="autoZero"/>
        <c:auto val="1"/>
        <c:lblAlgn val="ctr"/>
        <c:lblOffset val="100"/>
        <c:noMultiLvlLbl val="0"/>
      </c:catAx>
      <c:valAx>
        <c:axId val="90913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48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1AA-C6E7-4967-AA66-554F98CB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2A4-5358-43D7-A879-E37F5494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042-F2B6-4A0F-B228-8B911D5E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168-BFE8-42EE-9371-3918117E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756-2913-46AD-A419-30B71EC1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3D4-8964-4774-B2D4-E4428B24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45D-ADE1-4036-9F9E-4866A700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6B0-4502-45BE-9D38-0BD32661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7BC-8EEC-4C3D-9204-856BC4F1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022-D622-4A7D-851A-D391F530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ADB-4C59-4188-BD8F-8114113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0D4-84DA-4C40-8A5B-6B192221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47737-78CE-4311-BF0E-E52DC42428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