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83415"/>
        <c:axId val="12674788"/>
      </c:barChart>
      <c:catAx>
        <c:axId val="95383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4788"/>
        <c:crosses val="autoZero"/>
        <c:auto val="1"/>
        <c:lblAlgn val="ctr"/>
        <c:lblOffset val="100"/>
        <c:noMultiLvlLbl val="0"/>
      </c:catAx>
      <c:valAx>
        <c:axId val="12674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83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FC6-2C05-4ED8-B99D-AE02CB0E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DF1-ED9F-4AA4-8B6C-46FE0BE3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3FE-FC03-484D-988F-8D10D4A7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BDB-A280-4AD0-9081-D75E38F1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252-1937-403F-BAFE-FD55325B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5C5-18BE-4D6F-BCBA-3221CC76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084-D0A7-432D-B0A2-2467282D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621-0821-4564-8F3C-F1123E1B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CE2-96B7-4EF5-AA2A-617C9355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252-81B8-45F9-8477-1C18D9AE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C41-8A99-4A74-9E01-10441623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691-981D-4C97-89DA-41B7FA6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B2980-2307-4337-B548-E6F553F4AB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