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3828"/>
        <c:axId val="9516769"/>
      </c:barChart>
      <c:catAx>
        <c:axId val="7953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769"/>
        <c:crosses val="autoZero"/>
        <c:auto val="1"/>
        <c:lblAlgn val="ctr"/>
        <c:lblOffset val="100"/>
        <c:noMultiLvlLbl val="0"/>
      </c:catAx>
      <c:valAx>
        <c:axId val="9516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3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C28-0718-489A-A23E-198FDA56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BD5-8945-43FF-8B5A-46D69670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758-A6CC-4715-8C4D-D1263684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216-2075-47C6-BA08-EE9ED75D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AE0-0158-48FE-986A-859AB6B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FB8-B51A-4B1D-8176-305AFEC4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899-9E94-478B-B78E-3ADEA69D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226-0585-436D-82E3-64D18E6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E99-14B8-4712-BF58-B60642B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B86-3444-469D-95EA-DF735FEE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6F9-7FC1-4FD8-8BD5-DBBFD61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D5C-435B-4336-A47A-621D628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7412A-6EB5-4840-86A8-D3DC30E4F2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