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208651"/>
        <c:axId val="2170423"/>
      </c:barChart>
      <c:catAx>
        <c:axId val="922086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0423"/>
        <c:crosses val="autoZero"/>
        <c:auto val="1"/>
        <c:lblAlgn val="ctr"/>
        <c:lblOffset val="100"/>
        <c:noMultiLvlLbl val="0"/>
      </c:catAx>
      <c:valAx>
        <c:axId val="21704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086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200A-26C7-4A26-A7C6-BBC6FBD4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88B-9C70-44A2-9A06-58EC5E42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DA79-8D4E-45C6-9F34-20A8F1EE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EB51-AEAE-402D-A0B9-CFB5762B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15F7-668B-42CD-AC1B-48517CD2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2313-4D47-4476-8D57-D88A20D4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533F-C599-4498-B252-492ADB14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F7E4-F923-40A3-A7F6-F4A9742B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0516-EBF7-4C4F-AA08-3E8605A0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19B-3CF9-43AE-A773-64999BFC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41D8-DAB6-4ADF-B386-9601868C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C891-8E23-49F3-98B4-EB7E3CB5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A7AAA-AC79-45E4-A827-AF5913948C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