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375831"/>
        <c:axId val="70512405"/>
      </c:barChart>
      <c:catAx>
        <c:axId val="543758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512405"/>
        <c:crosses val="autoZero"/>
        <c:auto val="1"/>
        <c:lblAlgn val="ctr"/>
        <c:lblOffset val="100"/>
        <c:noMultiLvlLbl val="0"/>
      </c:catAx>
      <c:valAx>
        <c:axId val="705124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3758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81A0-1AA5-49B4-8372-A2A961C06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EEAB-ED45-423F-915F-0964296F4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0787-06A0-49A5-BE83-823022979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EDD6-586E-457B-8A19-8FD3E5454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1839-CF5E-41E8-AB26-705785795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A0F6-C437-4EC6-AB34-C2C425C6E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09D0-5D22-44C6-84F3-3F7E2DAF3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FC23-53E9-4F67-B531-C2DF9678B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C63B-5E45-46EC-BC65-91ECA0655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C4B1-E69F-4A9F-8323-051D0E912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585F-F679-4F6C-850C-9A7553A7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2CC5-2DBB-4256-A61E-058620381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0FDA23-14A9-4E6F-A19F-EFFDE07C89A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