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313480"/>
        <c:axId val="71678257"/>
      </c:barChart>
      <c:catAx>
        <c:axId val="593134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78257"/>
        <c:crosses val="autoZero"/>
        <c:auto val="1"/>
        <c:lblAlgn val="ctr"/>
        <c:lblOffset val="100"/>
        <c:noMultiLvlLbl val="0"/>
      </c:catAx>
      <c:valAx>
        <c:axId val="716782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3134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8F8B-4C7C-4D85-BA1D-2F5CD0E0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4997-AED2-45A9-937E-9999DF18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1B23-1FED-4410-9AAA-93090C324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37D1-1646-4C00-8D00-1DB08DB57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8B71-932F-4652-8D38-622E6163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8E0F-3081-4C0A-9BFF-C6D4EAA5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AB22-85D6-4A34-8414-6E8F124D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FDAB-2ACF-4F20-BF33-7B1560A6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4BBE-E0D5-4CC1-8F65-ED043F90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4C8F-5B1A-48E8-B359-BCD15BA5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A007-E2BF-44B3-9753-AAD8B826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C813-13D1-48E7-80E0-CE8E5022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DC2F3-3AAD-4A29-AE51-C206F34717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