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198857"/>
        <c:axId val="48139491"/>
      </c:barChart>
      <c:catAx>
        <c:axId val="601988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39491"/>
        <c:crosses val="autoZero"/>
        <c:auto val="1"/>
        <c:lblAlgn val="ctr"/>
        <c:lblOffset val="100"/>
        <c:noMultiLvlLbl val="0"/>
      </c:catAx>
      <c:valAx>
        <c:axId val="48139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1988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F19-E0EB-4063-B88E-D6867EBE2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24C8-BA29-4D5C-92C7-01A5F06B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348E-3137-4467-A92F-EC25BC284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782D-09EB-4D1B-BF92-FF66532E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1809-04A9-466F-BA14-C0918E0F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19B-E829-4D24-A433-055FD47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935E-F00A-4BD8-9043-25BC5883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3295-B85C-4629-8FCD-C94F29971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674A-021E-4386-A029-F7B7511E1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559B-519A-4F21-9DF5-98E994B0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9B25-3452-4C6C-ABF6-ADC85336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A6B-5B58-4E04-A5F8-317FAA81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B76EB-BA6B-49ED-B5AF-72E3F08BE30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