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00912"/>
        <c:axId val="3190246"/>
      </c:barChart>
      <c:catAx>
        <c:axId val="48200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0246"/>
        <c:crosses val="autoZero"/>
        <c:auto val="1"/>
        <c:lblAlgn val="ctr"/>
        <c:lblOffset val="100"/>
        <c:noMultiLvlLbl val="0"/>
      </c:catAx>
      <c:valAx>
        <c:axId val="3190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00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3B1-EB43-41A0-88DD-04FDB96D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CBE-ADBB-4E8F-85B5-BC434D50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907-37C3-499E-873C-A5789EF3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057-13DA-4C37-8E93-485536CC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AE4-62E4-49B6-8A3A-83F4E3E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890-154A-40D4-A937-B96BAAB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8FE-784B-49D6-B85F-F7A3D160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301-92FB-47A3-A467-7AF5768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A6B-0D45-4F05-B236-DB35DEF8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FD0-641B-4264-94AA-1198085E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138-976B-41DE-9F9E-636CE5A7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5F8-9144-4049-AEDF-A1CDCDD1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1DB52-2350-479C-BB72-BABEA21DF3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