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18568"/>
        <c:axId val="67780513"/>
      </c:barChart>
      <c:catAx>
        <c:axId val="31856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780513"/>
        <c:crosses val="autoZero"/>
        <c:auto val="1"/>
        <c:lblAlgn val="ctr"/>
        <c:lblOffset val="100"/>
        <c:noMultiLvlLbl val="0"/>
      </c:catAx>
      <c:valAx>
        <c:axId val="6778051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856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7FAAA-71BE-4C77-A5A0-D877B0005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0FE02-2EF5-46F5-8172-B8AA8F8D3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5AB05-F9D2-414D-A926-1D3549DD7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33AC8-3ED9-41A5-B6C9-DDDB4C8E7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4350C-F569-427B-AB7F-21F10AE7E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E3008-1D23-4DCF-A050-05FCE3415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594CB-6996-47A9-90B1-9A15E9C24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28FE6-267C-44BD-8CDA-D4FF9C0EA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60C33-2C1E-4E6C-A5AA-235EB7482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63987-2160-4642-8334-50A9D14CB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5BCB8-B0A1-4F6B-9F69-BE0243770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4F53C-A2E1-429B-B80F-8F9501318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61603D-08C5-4067-BAF7-DC2B594C5FE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