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06202"/>
        <c:axId val="74698997"/>
      </c:barChart>
      <c:catAx>
        <c:axId val="91006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98997"/>
        <c:crosses val="autoZero"/>
        <c:auto val="1"/>
        <c:lblAlgn val="ctr"/>
        <c:lblOffset val="100"/>
        <c:noMultiLvlLbl val="0"/>
      </c:catAx>
      <c:valAx>
        <c:axId val="74698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06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81E-4E42-49E2-951B-79A01958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51A-6AA8-4D40-90CB-6B2AC89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3D5-C95E-4887-8658-F0063660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5D0-DADF-4A9E-9A98-5576206E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A60-B2B0-4E14-967D-66B178AC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F32-AF5C-464D-A23B-5A8136B4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8C6-C6E7-4766-BEBF-76C767A7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95E-5C0E-4164-975B-3B3E52C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183-E5C8-4713-9047-9949259C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080-C62E-45EA-9652-118D3F5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C28-CB37-4283-AC16-4B212DD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476-D034-41C8-9855-C98928C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EAC08-64C3-46A3-98CB-E40E7C4A37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