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00600"/>
        <c:axId val="35523303"/>
      </c:barChart>
      <c:catAx>
        <c:axId val="59300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23303"/>
        <c:crosses val="autoZero"/>
        <c:auto val="1"/>
        <c:lblAlgn val="ctr"/>
        <c:lblOffset val="100"/>
        <c:noMultiLvlLbl val="0"/>
      </c:catAx>
      <c:valAx>
        <c:axId val="35523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00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D4E-20BC-4601-9DC2-B6353DA2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EBE-3711-4989-9670-771A0E3D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490-F9A2-412C-83E4-B02D88B2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DE3-BF6A-4B1B-89DF-5EFC548A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0B5-9F57-4FD0-B594-A79A5D5F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2E4-CEED-4343-9AA4-739134D0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666-F6E9-4202-817B-290547D7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74E-EDC8-4368-81CB-C237792D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945-4E45-4D2E-ADA1-B4F51946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616-F352-471E-BB48-A89E098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E8C-6550-4291-B3FB-7C817152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129-9D9C-466E-BCC7-1BAF3D8A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50842-9CC4-4BA7-B6DD-9D89099933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