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377286"/>
        <c:axId val="73882708"/>
      </c:barChart>
      <c:catAx>
        <c:axId val="553772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82708"/>
        <c:crosses val="autoZero"/>
        <c:auto val="1"/>
        <c:lblAlgn val="ctr"/>
        <c:lblOffset val="100"/>
        <c:noMultiLvlLbl val="0"/>
      </c:catAx>
      <c:valAx>
        <c:axId val="738827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772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FBA1-5D29-4EB9-AFE7-23D113D56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D1A2-D708-438A-96F2-9370563F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2E16-D103-4E48-B0DD-86B1A8381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8DBA-612A-407A-92E4-E8D98BF89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BE8D-2D31-421A-BF6F-616BEC86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3F34-169D-4CC9-B5E6-5925038B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2297-F2F3-453C-8DDF-4B093475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EA1B-578B-4748-A5EC-5474D3DD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9E3F-DEE4-41B0-B697-20EFEBDD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61AA-E25E-4A00-B54C-8EC3DCD6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B8C8-310D-4A2D-BDC9-EE7F91A9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F534-570C-4C37-8DB5-0EFA464F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641371-F343-4938-A804-F0115292E3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