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431532"/>
        <c:axId val="20201599"/>
      </c:barChart>
      <c:catAx>
        <c:axId val="543153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201599"/>
        <c:crosses val="autoZero"/>
        <c:auto val="1"/>
        <c:lblAlgn val="ctr"/>
        <c:lblOffset val="100"/>
        <c:noMultiLvlLbl val="0"/>
      </c:catAx>
      <c:valAx>
        <c:axId val="2020159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3153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94E7E-35AB-42B4-91DB-D02CB2048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74D66-8E90-4AA1-99A1-CD34F1821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9E07F-1A87-4E98-BE9B-DC5C01B11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67AF3-9683-4F43-A967-5A28974BE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1536D-0A80-40E5-A6CB-82D6A695A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49B7A-97CF-420D-9C45-DEA95313B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78BD7-B312-4BE6-9228-89D869D15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DA019-B032-4081-B643-C1A13D5F4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50503-3C9B-4610-AD04-6FD9E7E00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B5F31-44F8-466B-8D47-BFBAB92AF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52D28-4EF6-43F6-948E-2B89BCCC4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636A1-9E8D-4EC3-8469-10E63E092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3C273F-275A-4219-89A5-E96B78ACD3E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