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20849"/>
        <c:axId val="60811437"/>
      </c:barChart>
      <c:catAx>
        <c:axId val="53120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11437"/>
        <c:crosses val="autoZero"/>
        <c:auto val="1"/>
        <c:lblAlgn val="ctr"/>
        <c:lblOffset val="100"/>
        <c:noMultiLvlLbl val="0"/>
      </c:catAx>
      <c:valAx>
        <c:axId val="608114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20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E47-A03C-494D-8FA6-96BF0651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557-3DB3-49C5-9F00-97A901AA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FAE-4B1A-4E43-A09B-FFE0C077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B0C-ABC5-469E-B1CC-096C161D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304-A7CE-4B46-92FA-70A9E088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72D-D642-491C-BB25-93D55484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EFE-F843-45E8-BB6C-297589BF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F14-4FAC-41A6-8B33-4C564936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E0A-25AB-476F-B04B-27465FA6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6DC-F030-4AE0-B84B-F7A8CFA9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8B6-B3CF-47F4-A2EA-6AB7833D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43E-93A1-4436-9BF8-4E668917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05BCC-F2B4-4416-AC64-49742A700E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